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91C1-3B02-4FB6-9304-FB54BC47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779-6845-4A20-B0D8-09995E39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70B-D1E4-41F1-88F4-99FD212D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B30-74DE-4105-8AD9-A1C63618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7533-92C8-41E2-81E7-7E641BE4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756-457A-4F86-B52A-1383F41F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287-06D3-49D6-8463-136379A0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7B5-E918-4E29-8DDF-378FE1D9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AC6-66E5-4362-BD46-EA7C4005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AE5-E332-4574-B707-F7766EAE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878-C7DA-4070-9186-B88DC04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D0D-56FF-47FD-9A84-43DE8EA0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ACE1-EC80-4BD9-9408-2E8EC61A99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6560" y="190440"/>
            <a:ext cx="69026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6880" y="279360"/>
            <a:ext cx="149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La muj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46320" y="326880"/>
            <a:ext cx="965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lle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6840" y="307800"/>
            <a:ext cx="193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300"/>
                </a:solidFill>
                <a:latin typeface="Comic Sans MS"/>
              </a:rPr>
              <a:t>un sombr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46720" y="289080"/>
            <a:ext cx="9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b"/>
                </a:solidFill>
                <a:latin typeface="Comic Sans MS"/>
              </a:rPr>
              <a:t>azu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46800" y="270000"/>
            <a:ext cx="1098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GB" sz="2100" spc="-1" strike="noStrike">
                <a:solidFill>
                  <a:srgbClr val="00008b"/>
                </a:solidFill>
                <a:latin typeface="Comic Sans MS"/>
              </a:rPr>
              <a:t>gr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040" y="1193760"/>
            <a:ext cx="12891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La niñ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17880" y="1241280"/>
            <a:ext cx="1041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0000"/>
                </a:solidFill>
                <a:latin typeface="Comic Sans MS"/>
              </a:rPr>
              <a:t>tie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75000" y="1222200"/>
            <a:ext cx="149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9300"/>
                </a:solidFill>
                <a:latin typeface="Comic Sans MS"/>
              </a:rPr>
              <a:t>un bar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27640" y="1165320"/>
            <a:ext cx="104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8b"/>
                </a:solidFill>
                <a:latin typeface="Comic Sans MS"/>
              </a:rPr>
              <a:t>lar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6600" y="2384280"/>
            <a:ext cx="1746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omic Sans MS"/>
              </a:rPr>
              <a:t>La  palo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17880" y="2327400"/>
            <a:ext cx="984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omic Sans MS"/>
              </a:rPr>
              <a:t>mi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0" y="2308320"/>
            <a:ext cx="197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300"/>
                </a:solidFill>
                <a:latin typeface="Comic Sans MS"/>
              </a:rPr>
              <a:t>un monstru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89480" y="2270160"/>
            <a:ext cx="1327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5e"/>
                </a:solidFill>
                <a:latin typeface="Comic Sans MS"/>
              </a:rPr>
              <a:t>enor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2920" y="2232000"/>
            <a:ext cx="1193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y </a:t>
            </a:r>
            <a:r>
              <a:rPr b="0" lang="en-GB" sz="2200" spc="-1" strike="noStrike">
                <a:solidFill>
                  <a:srgbClr val="00005e"/>
                </a:solidFill>
                <a:latin typeface="Comic Sans MS"/>
              </a:rPr>
              <a:t>ra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60760" y="2441520"/>
            <a:ext cx="2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60480" y="2898720"/>
            <a:ext cx="2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60960" y="2813040"/>
            <a:ext cx="29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1960" y="3276720"/>
            <a:ext cx="1417680" cy="409320"/>
          </a:xfrm>
          <a:custGeom>
            <a:avLst/>
            <a:gdLst/>
            <a:ahLst/>
            <a:rect l="l" t="t" r="r" b="b"/>
            <a:pathLst>
              <a:path w="893" h="258">
                <a:moveTo>
                  <a:pt x="0" y="0"/>
                </a:moveTo>
                <a:lnTo>
                  <a:pt x="892" y="0"/>
                </a:lnTo>
                <a:lnTo>
                  <a:pt x="892" y="257"/>
                </a:lnTo>
                <a:lnTo>
                  <a:pt x="0" y="25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00160" y="3267000"/>
            <a:ext cx="1392480" cy="420840"/>
          </a:xfrm>
          <a:custGeom>
            <a:avLst/>
            <a:gdLst/>
            <a:ahLst/>
            <a:rect l="l" t="t" r="r" b="b"/>
            <a:pathLst>
              <a:path w="877" h="265">
                <a:moveTo>
                  <a:pt x="0" y="0"/>
                </a:moveTo>
                <a:lnTo>
                  <a:pt x="876" y="0"/>
                </a:lnTo>
                <a:lnTo>
                  <a:pt x="876" y="264"/>
                </a:lnTo>
                <a:lnTo>
                  <a:pt x="0" y="26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09920" y="3267000"/>
            <a:ext cx="1459080" cy="420840"/>
          </a:xfrm>
          <a:custGeom>
            <a:avLst/>
            <a:gdLst/>
            <a:ahLst/>
            <a:rect l="l" t="t" r="r" b="b"/>
            <a:pathLst>
              <a:path w="919" h="265">
                <a:moveTo>
                  <a:pt x="0" y="0"/>
                </a:moveTo>
                <a:lnTo>
                  <a:pt x="918" y="0"/>
                </a:lnTo>
                <a:lnTo>
                  <a:pt x="918" y="264"/>
                </a:lnTo>
                <a:lnTo>
                  <a:pt x="0" y="264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3267000"/>
            <a:ext cx="1487520" cy="420840"/>
          </a:xfrm>
          <a:custGeom>
            <a:avLst/>
            <a:gdLst/>
            <a:ahLst/>
            <a:rect l="l" t="t" r="r" b="b"/>
            <a:pathLst>
              <a:path w="937" h="265">
                <a:moveTo>
                  <a:pt x="0" y="0"/>
                </a:moveTo>
                <a:lnTo>
                  <a:pt x="936" y="0"/>
                </a:lnTo>
                <a:lnTo>
                  <a:pt x="936" y="264"/>
                </a:lnTo>
                <a:lnTo>
                  <a:pt x="0" y="264"/>
                </a:lnTo>
                <a:lnTo>
                  <a:pt x="0" y="0"/>
                </a:lnTo>
                <a:close/>
              </a:path>
            </a:pathLst>
          </a:custGeom>
          <a:solidFill>
            <a:srgbClr val="00008b"/>
          </a:solidFill>
          <a:ln w="38160">
            <a:solidFill>
              <a:srgbClr val="0000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240" y="76320"/>
            <a:ext cx="62802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46:47Z</dcterms:created>
  <dc:creator>Katy Oliver</dc:creator>
  <dc:description/>
  <dc:language>en-US</dc:language>
  <cp:lastModifiedBy>Katy Oliver</cp:lastModifiedBy>
  <dcterms:modified xsi:type="dcterms:W3CDTF">2012-03-02T06:46:52Z</dcterms:modified>
  <cp:revision>1</cp:revision>
  <dc:subject/>
  <dc:title>Slide 1</dc:title>
</cp:coreProperties>
</file>